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96B-0444-475E-A4C3-7FFFCC8E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D5A-75D9-49E1-A716-3C2AE16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650-3E0A-428A-A941-EC4F75EA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12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460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12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460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B19-FA79-4C9F-A492-25B62C86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47F-2432-4622-AF6B-9B016ED4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0E5-0E70-45CC-AC51-C59B159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587-DCF6-4391-A05F-96A078B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98A8-0B5B-4ABA-AC84-CCE10915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8872-DFEA-4DAE-8F66-0BB4CFC3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47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D510-FADB-4716-94A8-24019F5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5064-C1EF-435A-939C-C77AEDC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E65-CEF1-46C5-AAAB-06C9A16B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2E79-3C55-406C-9262-8B78205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231-A5F3-4368-9030-1ECD263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2AE1-04BF-403F-98FA-1FA3A35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1068-D03A-4403-A25D-EF5AB954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812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460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812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460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9225-1A58-4B4A-99FC-D0F1B501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BC3F-EF31-4CD3-BCBE-D56409DB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F2E4-5FC0-4986-BC05-C9FE6D66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1B41-8FEF-4069-9681-EF714C2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5CA4-5C94-41B8-8963-3EAFEB9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E7EF-9CBE-4947-A97B-ADF5AA3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0BF-CBD2-431E-A0F7-E2BF7DC7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47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065C-F2BD-4D57-B0DD-2A8ADA2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3BB7-F776-4AE4-B88A-F8F526D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C7FF-A8B4-4425-A551-C072E9D5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C34F-ECBF-419C-A7FB-B220C28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3E23-98B0-4E3C-8949-AAFF9BF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090C-A697-427F-9D83-9924840C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812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460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812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460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CBE8-9965-415A-9DAC-05C2D30B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C54B-3C44-4981-8133-CDDE16D0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E72A-65D8-4A1D-BB89-89F2A7D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4D20-7834-46E3-A98D-E6CFF73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DC2-71DE-46D1-9BEC-46BEF24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61E1-7FFB-4ED1-BD69-656BC50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0426-B6C1-4702-A2F7-DEBD18AF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47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93C9-3F12-404F-BABA-2AD2A33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E8C1-BA40-4DC7-B638-6125F72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3C7E-A4A1-40D4-8E34-452F334F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53AE-0038-4811-9267-38AFD26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A077-9DFC-427C-BA60-7EA14CD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A9AA-B829-419B-B045-D199D72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812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4600" y="197928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812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4600" y="4042440"/>
            <a:ext cx="266292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67A8-D69B-45F4-A18E-8690F26A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B91-3B2E-4C4A-8795-9D03637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47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B55-B5A4-412D-929C-471275E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AB0-449E-4A6C-95F1-2C26098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920" y="404244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C77-4782-4DFC-AC82-2EA5B2D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920" y="1979280"/>
            <a:ext cx="403596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2440"/>
            <a:ext cx="8271000" cy="18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A0B-EBC6-4452-95E6-2C953C5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57774-D8A2-4BA5-ADDA-3DE219BF1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10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591C9-FE82-4C66-BB84-80132152D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057040"/>
            <a:ext cx="9063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994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994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994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D37C6-471C-444B-BAA8-7DDAEAF513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C80B-E7D9-4BD5-BE5F-3E435187C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chool.eb.com/elementary/art-89353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chool.eb.com/elementary/art-90468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rticle%3FarticleId=399971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school.eb.com/elementary/art-88838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hyperlink" Target="http://www.school.eb.com/elementary/art-49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1552680"/>
            <a:ext cx="907092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 u="sng">
                <a:solidFill>
                  <a:srgbClr val="00dcff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dcff"/>
                </a:solidFill>
                <a:uFillTx/>
                <a:latin typeface="Arial"/>
              </a:rPr>
              <a:t>All about </a:t>
            </a: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gras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3108240" cy="3017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6840" y="6337440"/>
            <a:ext cx="8869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grassland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 Photograph.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Encyclopedia Britannic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 Web. 23 Apr. 201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chool.eb.com/elementary/art-893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754520"/>
            <a:ext cx="55785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3ff23"/>
                </a:solidFill>
                <a:latin typeface="Arial"/>
              </a:rPr>
              <a:t>By: Tee K mui h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5000b"/>
                </a:solidFill>
                <a:latin typeface="Arial"/>
              </a:rPr>
              <a:t>What is a Bi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596960"/>
            <a:ext cx="90676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A Biome is large place where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and plants like to live because of 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clim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Rain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Tund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Gras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68920" y="3400560"/>
            <a:ext cx="3409920" cy="2450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9680" y="6492960"/>
            <a:ext cx="937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avanna: sunset on a Kenyan savan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Photograph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cyclopedia Britannic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Web. 26 Apr. 2013. &lt;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2"/>
              </a:rPr>
              <a:t>http://www.school.eb.com/elementary/art-904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720" y="30168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600" y="1828800"/>
            <a:ext cx="10056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An ecosystem is a group of plants, animals, and other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1"/>
              </a:rPr>
              <a:t>living thin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 that live in the sam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buClr>
                <a:srgbClr val="00808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buClr>
                <a:srgbClr val="00808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Oc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buClr>
                <a:srgbClr val="00808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Swa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92560" y="3292560"/>
            <a:ext cx="2641680" cy="347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20" y="6770520"/>
            <a:ext cx="7469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wam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Photograph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cyclopedia Britannic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Web. 26 Apr. 2013. &lt;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3"/>
              </a:rPr>
              <a:t>http://www.school.eb.com/elementary/art-8883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Grasslands on a M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3382920"/>
            <a:ext cx="181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14840" y="1673280"/>
            <a:ext cx="5340240" cy="3251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2760" y="1676520"/>
            <a:ext cx="409392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3280" y="554040"/>
            <a:ext cx="88549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the climate of Grasslands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2240" y="1920960"/>
            <a:ext cx="82296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The summers are hot and the winters are cold. Sometimes the temperature is more than 100°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Rain in the grasslands usually occurs in the late spring and early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Fire is set by lightning 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3840" y="2109960"/>
            <a:ext cx="181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937040" y="4022640"/>
            <a:ext cx="3355920" cy="2198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7440" y="6675480"/>
            <a:ext cx="902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nch grass: vegetation profile of grassl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Art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cyclopedia Britannic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Web. 26 Apr. 2013. &lt;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3"/>
              </a:rPr>
              <a:t>http://www.school.eb.com/elementary/art-4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Food Web Found in Gras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73360" y="1193760"/>
            <a:ext cx="47242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2560" y="976320"/>
            <a:ext cx="51688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"food." Web. 30 Apr. 2013. &lt;http://www.gould.edu.au/foodwebs/kids_web.htm&gt;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7:20:48Z</dcterms:created>
  <dc:creator/>
  <dc:description/>
  <dc:language>en-US</dc:language>
  <cp:lastModifiedBy/>
  <cp:revision>1</cp:revision>
  <dc:subject/>
  <dc:title/>
</cp:coreProperties>
</file>